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5E238459-AAC8-4139-9E6B-CCA8B4DDEE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4600" y="752760"/>
            <a:ext cx="4953240" cy="37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81000" y="382680"/>
            <a:ext cx="4907160" cy="3679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2003  TTÜ   T.Tammet   loeng 3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71E5B72E-5738-4B78-AE4A-5729814ECAD6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jclark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1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XML baaskursus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ML väljanäitamine kasutajale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SLT sissejuhatus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 käsurealt käivitamisek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uxi/unixi käsureal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tproc  xslfail.xsl xmlfail.xm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trükib välja teisendatud fail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tproc  xslfail.xsl xmlfail.xml &gt; uusfail.xm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salvestab teisendatud faili nimega uusfail.xm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tproc teisendab ühe tüüpilise suurusega xml/html lehe hariliku 2 Ghz protsessoriga masinal umbes 0.001 sekundiga: sobib kujundusmootori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ga suurte datafailide / xslfailide puhul hakkab teisendamine oluliselt rohkem aega võtma: ei sobi päringumootori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126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SL põhiid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8760" y="990360"/>
            <a:ext cx="8879040" cy="58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 on nn template-keel, nagu PHP ja JSP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 faili sisu ongi teisenduse tulemus!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 faili saab sisse panna xsl-keelseid elemente, mis asendatakse lähtefaili juppidega (alltoodud näites ühtegi sellist elementi pole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inevalt PHP-st ja JSP-st ei ole xsl mõeldud programmide kirjutamiseks, kuigi ka see on põhimõtteliselt võimalik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kõik, mis xml failile järgmist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-fail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rakendada, tulemus on sam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 version="1.0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stylesheet xmlns:xsl="http://www.w3.org/1999/XSL/Transform"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n="1.0"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output method="html"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template match="/"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&lt;HEAD&gt;&lt;TITLE&gt;Welcome!&lt;/TITLE&gt;&lt;/HEA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&lt;BODY&gt;Welcome!&lt;/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131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966560" y="5641920"/>
            <a:ext cx="3975480" cy="5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2" marL="1143000" indent="-2286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Bitstream Vera Sans"/>
                <a:ea typeface="msgothic"/>
              </a:rPr>
              <a:t>Paksu kirjaga tekst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Bitstream Vera Sans"/>
                <a:ea typeface="msgothic"/>
              </a:rPr>
              <a:t>teisenduse tule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503240" y="5541840"/>
            <a:ext cx="107820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3800" y="4335480"/>
            <a:ext cx="35272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2" marL="1143000" indent="-2286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1319040"/>
                <a:tab algn="l" pos="1776240"/>
                <a:tab algn="l" pos="2233440"/>
                <a:tab algn="l" pos="2690640"/>
                <a:tab algn="l" pos="3147840"/>
                <a:tab algn="l" pos="3605040"/>
                <a:tab algn="l" pos="4062240"/>
                <a:tab algn="l" pos="4519440"/>
                <a:tab algn="l" pos="4976640"/>
                <a:tab algn="l" pos="5433840"/>
                <a:tab algn="l" pos="5891040"/>
                <a:tab algn="l" pos="6348240"/>
                <a:tab algn="l" pos="6805440"/>
                <a:tab algn="l" pos="7262640"/>
                <a:tab algn="l" pos="7719840"/>
                <a:tab algn="l" pos="8177040"/>
                <a:tab algn="l" pos="8634240"/>
                <a:tab algn="l" pos="9091440"/>
                <a:tab algn="l" pos="9548640"/>
                <a:tab algn="l" pos="1000584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Bitstream Vera Sans"/>
                <a:ea typeface="msgothic"/>
              </a:rPr>
              <a:t>Xsl keele nimi (ur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529160" y="3709800"/>
            <a:ext cx="1859040" cy="77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 brauseri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lvestame eelmise faili nimega fitnesscenter.xsl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lvestame xml-data-faili nimega: fitnesscenter.xm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?xml version="1.0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-stylesheet type="text/xsl" href=fitnesscenter.xsl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FitnessCenter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Member level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atinum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Name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eff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Name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Phone type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ome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"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55-1234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Phone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Phone type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ork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"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555-4321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Phone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FavoriteColor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ghtgrey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FavoriteColor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Member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800" spc="-1" strike="noStrike">
                <a:solidFill>
                  <a:srgbClr val="fc0128"/>
                </a:solidFill>
                <a:latin typeface="Bitstream Vera Sans"/>
              </a:rPr>
              <a:t>FitnessCenter</a:t>
            </a:r>
            <a:r>
              <a:rPr b="0" lang="en-GB" sz="18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nüüd see fail brauseriga avada (Mozilla või MS IE), siis kuvatakse xsl failis olev html, st tekst “Welcome!”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140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 flipH="1" flipV="1">
            <a:off x="6580080" y="2575080"/>
            <a:ext cx="1322640" cy="17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4800" y="4384800"/>
            <a:ext cx="1830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öötluskä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brauseri ja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simene asendus xsl fail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609040" cy="555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e nii, et html-s oleks näha vastava isiku (Member element) nime (Name element) tekstiandmed xml faili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 version="1.0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stylesheet     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ns:xsl="http://www.w3.org/1999/XSL/Transform"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n="1.0"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output method="html"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template match="/"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EAD&gt;&lt;TITLE&gt;Welcome!&lt;/TITLE&gt;&lt;/HEA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lcome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value-of 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Name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147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 flipH="1" flipV="1">
            <a:off x="3551400" y="4858920"/>
            <a:ext cx="1676160" cy="97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05560" y="4946760"/>
            <a:ext cx="3214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alt võetakse asend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ulem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041440" y="4749840"/>
            <a:ext cx="515880" cy="3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3120" y="5764320"/>
            <a:ext cx="31266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senduskäsk xsl kee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568560" y="3529080"/>
            <a:ext cx="698760" cy="85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6280" y="3174840"/>
            <a:ext cx="27712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PATH keeles avald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enduse tulemus rehkendatakse ni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88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7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XML datafail  oli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?xml version="1.0"?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?xml-stylesheet type="text/xsl" href=fitnesscenter.xsl"?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FitnessCente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Member level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latinum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Nam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Jeff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Nam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Phone typ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om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"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555-1234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Phon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Phone typ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ork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"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555-4321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Phon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FavoriteColo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ightgrey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FavoriteColo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Membe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FitnessCente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Asendatav avaldis XSL failis oli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value-of 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Name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EAD&gt;&lt;TITLE&gt;Welcome!&lt;/TITLE&gt;&lt;/HEA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lcome Jeff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158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H="1" flipV="1">
            <a:off x="3173400" y="2941200"/>
            <a:ext cx="3006720" cy="220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466800" y="5592600"/>
            <a:ext cx="515880" cy="3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88800" y="5850000"/>
            <a:ext cx="50130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PATH on analoogiline kataloogipu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enduse tulemus o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auseris näeme “Welcome Jeff!”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ML source 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EAD&gt;&lt;TITLE&gt;Welcome!&lt;/TITLE&gt;&lt;/HEA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lcome Jeff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166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kstide võtmine xml datafaili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7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ta datateksti xml-st, kasutades elementi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6476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value-of select="…"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avigeerimine xml datafailis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647640" indent="-216000">
              <a:lnSpc>
                <a:spcPct val="97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lash ("/") näitab vanem/laps suh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647640" indent="-216000">
              <a:lnSpc>
                <a:spcPct val="97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 alguses olev slash näitab, et tegu on absoluutteega (st. algab xml datafaili juurelemendist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6476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162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Tee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   /FitnessCenter/Member/Name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tähendab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lusta dokumendi juurelemendist (algusest), otsi kohe selle alt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lement FitnessCenter, siis selle alt Member, siis selle alt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Name, siis võta selle elemendi väärtus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171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flipH="1" flipV="1">
            <a:off x="4188960" y="1965240"/>
            <a:ext cx="1430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69640" y="2332080"/>
            <a:ext cx="1346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e (pa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21240" y="174600"/>
            <a:ext cx="1130040" cy="903240"/>
          </a:xfrm>
          <a:custGeom>
            <a:avLst/>
            <a:gdLst/>
            <a:ahLst/>
            <a:rect l="l" t="t" r="r" b="b"/>
            <a:pathLst>
              <a:path w="3140" h="2509">
                <a:moveTo>
                  <a:pt x="1568" y="0"/>
                </a:moveTo>
                <a:lnTo>
                  <a:pt x="1202" y="958"/>
                </a:lnTo>
                <a:lnTo>
                  <a:pt x="0" y="958"/>
                </a:lnTo>
                <a:lnTo>
                  <a:pt x="976" y="1556"/>
                </a:lnTo>
                <a:lnTo>
                  <a:pt x="609" y="2508"/>
                </a:lnTo>
                <a:lnTo>
                  <a:pt x="1568" y="1925"/>
                </a:lnTo>
                <a:lnTo>
                  <a:pt x="2528" y="2508"/>
                </a:lnTo>
                <a:lnTo>
                  <a:pt x="2161" y="1556"/>
                </a:lnTo>
                <a:lnTo>
                  <a:pt x="3139" y="958"/>
                </a:lnTo>
                <a:lnTo>
                  <a:pt x="1935" y="958"/>
                </a:lnTo>
                <a:lnTo>
                  <a:pt x="1568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87840" y="482760"/>
            <a:ext cx="1055520" cy="453960"/>
            <a:chOff x="3687840" y="482760"/>
            <a:chExt cx="1055520" cy="453960"/>
          </a:xfrm>
        </p:grpSpPr>
        <p:sp>
          <p:nvSpPr>
            <p:cNvPr id="177" name=""/>
            <p:cNvSpPr/>
            <p:nvPr/>
          </p:nvSpPr>
          <p:spPr>
            <a:xfrm>
              <a:off x="3790800" y="482760"/>
              <a:ext cx="84960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87840" y="482760"/>
              <a:ext cx="105552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Docu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739800" y="1463760"/>
            <a:ext cx="1735200" cy="639720"/>
          </a:xfrm>
          <a:custGeom>
            <a:avLst/>
            <a:gdLst/>
            <a:ahLst/>
            <a:rect l="l" t="t" r="r" b="b"/>
            <a:pathLst>
              <a:path w="4821" h="1778">
                <a:moveTo>
                  <a:pt x="2409" y="0"/>
                </a:moveTo>
                <a:lnTo>
                  <a:pt x="4820" y="888"/>
                </a:lnTo>
                <a:lnTo>
                  <a:pt x="2409" y="1777"/>
                </a:lnTo>
                <a:lnTo>
                  <a:pt x="0" y="888"/>
                </a:lnTo>
                <a:lnTo>
                  <a:pt x="2409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27480" y="1482840"/>
            <a:ext cx="2017080" cy="453960"/>
            <a:chOff x="627480" y="1482840"/>
            <a:chExt cx="2017080" cy="453960"/>
          </a:xfrm>
        </p:grpSpPr>
        <p:sp>
          <p:nvSpPr>
            <p:cNvPr id="181" name=""/>
            <p:cNvSpPr/>
            <p:nvPr/>
          </p:nvSpPr>
          <p:spPr>
            <a:xfrm>
              <a:off x="822240" y="1482840"/>
              <a:ext cx="162720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7480" y="1482840"/>
              <a:ext cx="201708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&lt;?xml version=“1.0”?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780240" y="1479600"/>
            <a:ext cx="1057320" cy="495360"/>
          </a:xfrm>
          <a:prstGeom prst="roundRect">
            <a:avLst>
              <a:gd name="adj" fmla="val 31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07880" y="1509840"/>
            <a:ext cx="1235160" cy="453960"/>
            <a:chOff x="6707880" y="1509840"/>
            <a:chExt cx="1235160" cy="453960"/>
          </a:xfrm>
        </p:grpSpPr>
        <p:sp>
          <p:nvSpPr>
            <p:cNvPr id="185" name=""/>
            <p:cNvSpPr/>
            <p:nvPr/>
          </p:nvSpPr>
          <p:spPr>
            <a:xfrm>
              <a:off x="6815160" y="1509840"/>
              <a:ext cx="102060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07880" y="1509840"/>
              <a:ext cx="123516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FitnessCe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903840" y="2635200"/>
            <a:ext cx="1056960" cy="495360"/>
          </a:xfrm>
          <a:prstGeom prst="roundRect">
            <a:avLst>
              <a:gd name="adj" fmla="val 31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004280" y="2665440"/>
            <a:ext cx="884880" cy="453960"/>
            <a:chOff x="4004280" y="2665440"/>
            <a:chExt cx="884880" cy="453960"/>
          </a:xfrm>
        </p:grpSpPr>
        <p:sp>
          <p:nvSpPr>
            <p:cNvPr id="189" name=""/>
            <p:cNvSpPr/>
            <p:nvPr/>
          </p:nvSpPr>
          <p:spPr>
            <a:xfrm>
              <a:off x="4084560" y="2665440"/>
              <a:ext cx="72396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04280" y="2665440"/>
              <a:ext cx="88488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Member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623960" y="911160"/>
            <a:ext cx="5664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17840" y="917640"/>
            <a:ext cx="144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05840" y="930240"/>
            <a:ext cx="144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25840" y="2292480"/>
            <a:ext cx="2932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35560" y="2313000"/>
            <a:ext cx="144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35080" y="3622680"/>
            <a:ext cx="1057320" cy="495360"/>
          </a:xfrm>
          <a:prstGeom prst="roundRect">
            <a:avLst>
              <a:gd name="adj" fmla="val 31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235520" y="3652920"/>
            <a:ext cx="884880" cy="453960"/>
            <a:chOff x="1235520" y="3652920"/>
            <a:chExt cx="884880" cy="453960"/>
          </a:xfrm>
        </p:grpSpPr>
        <p:sp>
          <p:nvSpPr>
            <p:cNvPr id="198" name=""/>
            <p:cNvSpPr/>
            <p:nvPr/>
          </p:nvSpPr>
          <p:spPr>
            <a:xfrm>
              <a:off x="1316160" y="3652920"/>
              <a:ext cx="72360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35520" y="3652920"/>
              <a:ext cx="88488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874960" y="3635280"/>
            <a:ext cx="1057320" cy="495360"/>
          </a:xfrm>
          <a:prstGeom prst="roundRect">
            <a:avLst>
              <a:gd name="adj" fmla="val 31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5760" y="3665520"/>
            <a:ext cx="884880" cy="453960"/>
            <a:chOff x="2975760" y="3665520"/>
            <a:chExt cx="884880" cy="453960"/>
          </a:xfrm>
        </p:grpSpPr>
        <p:sp>
          <p:nvSpPr>
            <p:cNvPr id="202" name=""/>
            <p:cNvSpPr/>
            <p:nvPr/>
          </p:nvSpPr>
          <p:spPr>
            <a:xfrm>
              <a:off x="3056040" y="3665520"/>
              <a:ext cx="72396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75760" y="3665520"/>
              <a:ext cx="88488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Ph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816440" y="3610080"/>
            <a:ext cx="1057320" cy="495360"/>
          </a:xfrm>
          <a:prstGeom prst="roundRect">
            <a:avLst>
              <a:gd name="adj" fmla="val 31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917240" y="3639960"/>
            <a:ext cx="884880" cy="454320"/>
            <a:chOff x="4917240" y="3639960"/>
            <a:chExt cx="884880" cy="454320"/>
          </a:xfrm>
        </p:grpSpPr>
        <p:sp>
          <p:nvSpPr>
            <p:cNvPr id="206" name=""/>
            <p:cNvSpPr/>
            <p:nvPr/>
          </p:nvSpPr>
          <p:spPr>
            <a:xfrm>
              <a:off x="4997520" y="3639960"/>
              <a:ext cx="723960" cy="4543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17240" y="3639960"/>
              <a:ext cx="88488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Ph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593040" y="3622680"/>
            <a:ext cx="1056960" cy="495360"/>
          </a:xfrm>
          <a:prstGeom prst="roundRect">
            <a:avLst>
              <a:gd name="adj" fmla="val 31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550200" y="3652920"/>
            <a:ext cx="1174320" cy="453960"/>
            <a:chOff x="6550200" y="3652920"/>
            <a:chExt cx="1174320" cy="453960"/>
          </a:xfrm>
        </p:grpSpPr>
        <p:sp>
          <p:nvSpPr>
            <p:cNvPr id="210" name=""/>
            <p:cNvSpPr/>
            <p:nvPr/>
          </p:nvSpPr>
          <p:spPr>
            <a:xfrm>
              <a:off x="6618240" y="3652920"/>
              <a:ext cx="103824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50200" y="3652920"/>
              <a:ext cx="117432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FavoriteCol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633680" y="3378240"/>
            <a:ext cx="5492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27200" y="3371760"/>
            <a:ext cx="144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11360" y="3394080"/>
            <a:ext cx="180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51400" y="3376440"/>
            <a:ext cx="180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22960" y="3384720"/>
            <a:ext cx="180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04920" y="4624560"/>
            <a:ext cx="80820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1160" y="3137040"/>
            <a:ext cx="144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32840" y="1987560"/>
            <a:ext cx="144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328400" y="4745160"/>
            <a:ext cx="561600" cy="453960"/>
            <a:chOff x="1328400" y="4745160"/>
            <a:chExt cx="561600" cy="453960"/>
          </a:xfrm>
        </p:grpSpPr>
        <p:sp>
          <p:nvSpPr>
            <p:cNvPr id="221" name=""/>
            <p:cNvSpPr/>
            <p:nvPr/>
          </p:nvSpPr>
          <p:spPr>
            <a:xfrm>
              <a:off x="1370160" y="4745160"/>
              <a:ext cx="47772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28400" y="4745160"/>
              <a:ext cx="56160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Je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601640" y="4129200"/>
            <a:ext cx="180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1120" y="466236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967480" y="4782960"/>
            <a:ext cx="919800" cy="454320"/>
            <a:chOff x="2967480" y="4782960"/>
            <a:chExt cx="919800" cy="454320"/>
          </a:xfrm>
        </p:grpSpPr>
        <p:sp>
          <p:nvSpPr>
            <p:cNvPr id="226" name=""/>
            <p:cNvSpPr/>
            <p:nvPr/>
          </p:nvSpPr>
          <p:spPr>
            <a:xfrm>
              <a:off x="3044880" y="4782960"/>
              <a:ext cx="765000" cy="4543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67480" y="4782960"/>
              <a:ext cx="91980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555-12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417840" y="4167360"/>
            <a:ext cx="180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46760" y="461952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891680" y="4740120"/>
            <a:ext cx="919800" cy="454320"/>
            <a:chOff x="4891680" y="4740120"/>
            <a:chExt cx="919800" cy="454320"/>
          </a:xfrm>
        </p:grpSpPr>
        <p:sp>
          <p:nvSpPr>
            <p:cNvPr id="231" name=""/>
            <p:cNvSpPr/>
            <p:nvPr/>
          </p:nvSpPr>
          <p:spPr>
            <a:xfrm>
              <a:off x="4968720" y="4740120"/>
              <a:ext cx="765360" cy="4543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91680" y="4740120"/>
              <a:ext cx="91980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555-43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343480" y="4124160"/>
            <a:ext cx="180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34160" y="4632480"/>
            <a:ext cx="80820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709680" y="4753080"/>
            <a:ext cx="861840" cy="453960"/>
            <a:chOff x="6709680" y="4753080"/>
            <a:chExt cx="861840" cy="453960"/>
          </a:xfrm>
        </p:grpSpPr>
        <p:sp>
          <p:nvSpPr>
            <p:cNvPr id="236" name=""/>
            <p:cNvSpPr/>
            <p:nvPr/>
          </p:nvSpPr>
          <p:spPr>
            <a:xfrm>
              <a:off x="6773760" y="4753080"/>
              <a:ext cx="73368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09680" y="4753080"/>
              <a:ext cx="861840" cy="4431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Bitstream Vera Sans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</a:rPr>
                <a:t>lightgr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130880" y="4137120"/>
            <a:ext cx="180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40400" y="741240"/>
            <a:ext cx="2363760" cy="63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617720" y="1816200"/>
            <a:ext cx="2071800" cy="72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077920" y="2944800"/>
            <a:ext cx="1735200" cy="60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ine asendus xsl fail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609040" cy="555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e nii, et html-i taustvärv oleks vastava isiku (Member element) lemmikvärvi (FavoriteColor)  tekstiandmed xml faili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 version="1.0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stylesheet     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ns:xsl="http://www.w3.org/1999/XSL/Transform"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n="1.0"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output method="html"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template match="/"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EAD&gt;&lt;TITLE&gt;Welcome!&lt;/TITLE&gt;&lt;/HEA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ODY bgcolor="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{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FavoriteColor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}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lcome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value-of 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Name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45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 flipH="1" flipV="1">
            <a:off x="3430080" y="4443120"/>
            <a:ext cx="1614600" cy="91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90840" y="5202360"/>
            <a:ext cx="35744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oogelistes sulgu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tribuudi sisu asendatak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507000" y="3174840"/>
            <a:ext cx="968400" cy="9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09920" y="2820960"/>
            <a:ext cx="27712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PATH keeles avald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senduse tulem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8113680" cy="59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Atribuudi tekst ei tohi sisaldada &lt; või &gt;, seeg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i ole lubat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Body bgcolor="&lt;xsl:value-of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elect='/FitnessCenter/Member/FavoriteColor'/&gt;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tribuutide asenduseks xsl abil on mitu viisi, loogeliste sulgudega süntaks on ainult üks alternatiiv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elmise xsl-asenduse tulemuseks saadav HTML source on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EAD&gt;&lt;TITLE&gt;Welcome!&lt;/TITLE&gt;&lt;/HEA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ODY bgcolor=”lightgrey”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lcome Jeff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54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ja stylesheet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das XML teksti kasutajale näidata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zilla/Netscape ja MS IE näitavad XML-i välja nö tehnilisel viisi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54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1"/>
          <a:srcRect l="-103" t="-89" r="0" b="0"/>
          <a:stretch/>
        </p:blipFill>
        <p:spPr>
          <a:xfrm>
            <a:off x="527040" y="1709640"/>
            <a:ext cx="8437680" cy="5067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olmas asendus xsl fail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79440" y="990360"/>
            <a:ext cx="8609040" cy="58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7960" indent="-3279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me nii, et html-s oleks näha vastava isiku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du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telefoninumb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 version="1.0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stylesheet     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ns:xsl="http://www.w3.org/1999/XSL/Transform"  version="1.0"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output method="html"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template match="/"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EAD&gt;&lt;TITLE&gt;Welcome!&lt;/TITLE&gt;&lt;/HEA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ODY bgcolor="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{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FavoriteColor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}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elcome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value-of 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Name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BR/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Your home phone number is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value-of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                    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Phone[@type='home']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79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59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 flipV="1">
            <a:off x="6008760" y="5065560"/>
            <a:ext cx="41436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22320" y="5470560"/>
            <a:ext cx="406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lib Phone elemendi, millel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ype=”home” atrib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uk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724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-avaldise lõpus olev klambrites avaldis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edikaa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mis valib mitme võimaliku elemendi (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itu Phone elementi!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 sellise, mis klapib predikaadiga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      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Phone[@type='home']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sjuures @ tähendab, et type on atribuu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ect-avaldises on jutumärkide “ sees apostroofid '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OK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     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Phone[@type='home']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 sees olev html peab olema suletud tagidega xhtml, seega &lt;br&gt; ilma &lt;/br&gt; ei ole OK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 &lt;br/&gt; asendatakse automaatselt elemendiks &lt;br&gt; tulemus-html-s, kui xsl-i tulemus on html, st on antud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output method="html"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66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süklid xsl-s: for-each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na member-il võib olla mitu telefoni, teeme nüüd tulemus-htmli tema telefoninumbrite tabel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abl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r&gt;&lt;td&gt; ... numbritüüp ... &lt;/td&gt;&lt;td&gt; ... number ... &lt;/td&gt;&lt;/t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r&gt;&lt;td&gt; ... &lt;/td&gt;&lt;td&gt; ...&lt;/td&gt;&lt;/t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 sisaldab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for-each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äsku, mis teeb tsükli üle kõigi leitud sobivate elementide, olgu neid siis null, üks, kümme või kuitahes palju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or-each atribuu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lec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valib kõik sobivad elemendi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71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 tsükli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8400" y="990720"/>
            <a:ext cx="8985240" cy="592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?xml version="1.0"?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xsl:stylesheet xmlns:xsl="http://www.w3.org/1999/XSL/Transform"  version="1.0"&gt;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xsl:output method="html"/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xsl:template match="/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HTML&gt;&lt;HEAD&gt;&lt;TITLE&gt;Welcome!&lt;/TITLE&gt;&lt;/HEA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BODY bgcolor="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{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FavoriteColor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}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elcome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&lt;xsl:value-of  select="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Name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BR/&gt; Your phone numbers are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TABLE border="1" width="25%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TR&gt;&lt;TH&gt;Type&lt;/TH&gt;&lt;TH&gt;Number&lt;/TH&gt;&lt;/TR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for-each 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Phone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TD&gt;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value-of 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@type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TD&gt;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value-of 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.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/xsl:for-each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&lt;xsl:value-of  select="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Phone[@type='home']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xsl:stylesheet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76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ähelepanek: suhtelised te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3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sükli sees kasutati suhtelisi teid (path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&lt;xsl:for-each select="</a:t>
            </a:r>
            <a:r>
              <a:rPr b="1" lang="en-GB" sz="1800" spc="-1" strike="noStrike">
                <a:solidFill>
                  <a:srgbClr val="800000"/>
                </a:solidFill>
                <a:latin typeface="Bitstream Vera Sans"/>
              </a:rPr>
              <a:t>/FitnessCenter/Member/Phone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 -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 “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@type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”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on predikaat sellel elemendil, kus m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etkel oleme: see muutub tsükli sees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muti, tee  “</a:t>
            </a:r>
            <a:r>
              <a:rPr b="1" lang="en-GB" sz="1800" spc="-1" strike="noStrike">
                <a:solidFill>
                  <a:srgbClr val="800000"/>
                </a:solidFill>
                <a:latin typeface="Bitstream Vera Sans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 viitab elemendile, kus me hetkel olem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muutub tsükli sees.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 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81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ingimused/valikud xsl-s: (if test ...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1000" y="990360"/>
            <a:ext cx="8853480" cy="653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iendame oma xsl-i nii, et ainult plaatina-tasemel liikmetele teeme html-s pakkumise (st siis, kui on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Member level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latinum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"&gt;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?xml version="1.0"?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xsl:stylesheet xmlns:xsl="http://www.w3.org/1999/XSL/Transform" version="1.0"&gt;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xsl:output method="html"/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xsl:template match="/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HTML&gt;&lt;HEAD&gt;&lt;TITLE&gt;Welcome!&lt;/TITLE&gt;&lt;/HEA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BODY bgcolor="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{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FavoriteColor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}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elcome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&lt;xsl:value-of  select="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Name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737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BR/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737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if tes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@level='platinum'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737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Our special offer to platinum members today is 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737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BR/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737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/xsl:if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BR/&gt; Your phone numbers are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86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lementide võtmine mujalt dokumendi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88520" y="990720"/>
            <a:ext cx="84265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endame loodud html tabelit, lisades nime tulba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abl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r&gt;&lt;td&gt;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im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d&gt;&lt;td&gt;numbritüüp&lt;/td&gt;&lt;td&gt; number&lt;/td&gt;&lt;/t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r&gt;&lt;td&gt; ... &lt;/td&gt;&lt;td&gt; ... &lt;/td&gt;&lt;td&gt; ...&lt;/td&gt;&lt;/t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mi on väljaspool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ho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element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FitnessCente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Member level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platinum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Nam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Jeff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Nam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Phone typ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hom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"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555-1234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Phon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Phone typ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work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"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555-4321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Phone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FavoriteColo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lightgrey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FavoriteColo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Membe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lt;/</a:t>
            </a:r>
            <a:r>
              <a:rPr b="0" lang="en-GB" sz="1600" spc="-1" strike="noStrike">
                <a:solidFill>
                  <a:srgbClr val="fc0128"/>
                </a:solidFill>
                <a:latin typeface="Bitstream Vera Sans"/>
              </a:rPr>
              <a:t>FitnessCenter</a:t>
            </a:r>
            <a:r>
              <a:rPr b="0" lang="en-GB" sz="1600" spc="-1" strike="noStrike">
                <a:solidFill>
                  <a:srgbClr val="618ffd"/>
                </a:solidFill>
                <a:latin typeface="Bitstream Vera Sans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hone elemendist saame minna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./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 abil tema vanema (Member) juurde ja sealt juba Name juurde: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../Nam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91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 tagasimineva pathiga (Name juurde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5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BR/&gt; Your phone numbers are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ABLE border="1" width="25%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TH&gt;Name&lt;/TH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H&gt;Type&lt;/TH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H&gt;Number&lt;/TH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&lt;xsl:for-each select="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/FitnessCenter/Member/Phone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TD&gt;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&lt;xsl:value-of select="</a:t>
            </a:r>
            <a:r>
              <a:rPr b="1" lang="en-GB" sz="1600" spc="-1" strike="noStrike">
                <a:solidFill>
                  <a:srgbClr val="800000"/>
                </a:solidFill>
                <a:latin typeface="Bitstream Vera Sans"/>
              </a:rPr>
              <a:t>../Name</a:t>
            </a:r>
            <a:r>
              <a:rPr b="1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&lt;xsl:value-of select="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@type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TD&gt;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&lt;xsl:value-of select="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.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"/&gt;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&lt;/xsl:for-each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spcAft>
                <a:spcPts val="286"/>
              </a:spcAft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162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1916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296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eisi viise brauseri xsl protsessori käivitamisek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elpool vaadatud viis xsl faili töötlemiskäsu lisamisega xml-andmefaili ei pruugi brauseris alati sobi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lisele XML datafailile ei pruugi me kuigi mugavalt saada (tahta) töötlemiskäsku lisa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surea/teegifunktsioonide puhul pole töötluskäsku vaj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zilla/Netscape võimaldavad käivitada xsl protsessorit ka javascripti funktsioonidega html-s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S IE võimaldavad käivitada xsl protsessorit nii javascripti kui vbscripti funktsioonidega html-s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838080" y="379440"/>
            <a:ext cx="7770960" cy="488880"/>
            <a:chOff x="838080" y="379440"/>
            <a:chExt cx="7770960" cy="488880"/>
          </a:xfrm>
        </p:grpSpPr>
        <p:sp>
          <p:nvSpPr>
            <p:cNvPr id="301" name=""/>
            <p:cNvSpPr/>
            <p:nvPr/>
          </p:nvSpPr>
          <p:spPr>
            <a:xfrm>
              <a:off x="838080" y="86040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8607600" y="379440"/>
              <a:ext cx="1440" cy="488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 ja xsl eraldi käivitus Mozilla/I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de examplexsltop.html sobib nii Mozilla kui MS IE jaoks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xsltop.html on html-peafail, sisaldab javascript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avascipt kontrollib, millise brauseriga tegemis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xsltop.xml on xml datafail ilma töötluskäsut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amplexsltop.xsl on xsl fa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de kasutab lisaks varemvaadatule ve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rteerimist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hoose konstruktsioon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 muutuja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838080" y="379440"/>
            <a:ext cx="7770960" cy="488880"/>
            <a:chOff x="838080" y="379440"/>
            <a:chExt cx="7770960" cy="488880"/>
          </a:xfrm>
        </p:grpSpPr>
        <p:sp>
          <p:nvSpPr>
            <p:cNvPr id="306" name=""/>
            <p:cNvSpPr/>
            <p:nvPr/>
          </p:nvSpPr>
          <p:spPr>
            <a:xfrm>
              <a:off x="838080" y="86040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8607600" y="379440"/>
              <a:ext cx="1440" cy="488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XML-i paremini näidat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elmisel slaidil toodud viis on pingutustega loetav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bib arendustöök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sobi lõppkasutaja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- “ilusaks väljanäitamiseks” on kolm põhiviis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CSS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scading style sheets fail, a la html kujundami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SS failis saab öelda, kuidas mingit elementi visuaalselt näidata: värvid, font, paigutus. Tugi Mozillas ja IE-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SLT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-i teisendamine HTML-k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T failis olevate teisendusreeglitega teisendatakse XML harilikuks html-ks ja näidatakse seda. Tugi Mozillas ja IE-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SL-FO: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-i teisendamine spetsiaalsesse kujunduskeeld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-FO on spetsiaalne XML süntaksiga kujunduskeel, võimas ja keerul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gi hetkel (2003) nõrk, mh brauserid ei toet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60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 ja MS IE XSL käivitus vbscript abi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de xmlxslexample.html sobib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ainu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MS IE jaoks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xslexample.html on html-peafail, sisaldab vbscript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chedule.xml on xml datafail ilma töötluskäsut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llapsed.xsl on xsl fail lühema info-näitamis-stiilig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xpanded.xsl näitab kogu info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 xsl failid ei kasuta ülds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stylesheet ....&gt; element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output ...&gt; element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xsl:template ...&gt; element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38080" y="379440"/>
            <a:ext cx="7770960" cy="488880"/>
            <a:chOff x="838080" y="379440"/>
            <a:chExt cx="7770960" cy="488880"/>
          </a:xfrm>
        </p:grpSpPr>
        <p:sp>
          <p:nvSpPr>
            <p:cNvPr id="311" name=""/>
            <p:cNvSpPr/>
            <p:nvPr/>
          </p:nvSpPr>
          <p:spPr>
            <a:xfrm>
              <a:off x="838080" y="860400"/>
              <a:ext cx="77695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8607600" y="379440"/>
              <a:ext cx="1440" cy="488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eidi CSS-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4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SS on omaette, mitte-XML-süntaksiga keel, mis on kujunenud HTML kujundamise standardiks brauserit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SS failis saab öelda, kuidas HTML tagi sees olevat teksti näidata: värvid, fondid, paigutus j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ML tagidele saab lisada klassi nime, ning CSS-s saab öelda, kuidas seda klassi välja näidata (tagi nimest sõltumatult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SS-i saab ka XML-le külge panna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ugi XML+CSS on brauserites olemas, kuid mitte väga he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õhiproblee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css ei võimalda XML teksti veidi muuta, ümber järjestada jne. Reeglina ei sobi päris hästi  “toore XML data” väljanäitamise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65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s+XML näide: ava brauseris xml fail!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7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 fail raamatud.xm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?xml-stylesheet type="text/css" href="raamatud1.css"?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raamatu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raamat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autor&gt;A. H. Tammsaare&lt;/autor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pealkiri&gt;Põrgupõhja uus vanapagan&lt;/pealkiri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hind currency="EEK"&gt;125.20&lt;/hin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raamat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raamat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autor&gt;C. Bukowski&lt;/autor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pealkiri&gt;Women&lt;/pealkiri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hind currency="EUR"&gt;11.10&lt;/hin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raamat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raamatud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1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CSS fail raamatud1.css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STYLE TYPE="text/css"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BODY { margin: 10px; color: black; font-family: Arial, Helvetica,sans-serif; }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raamat { color:blue; padding: 10px; }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autor { color:black; font-weight:bold;}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1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70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SLT on palju võimsam keel, kui CS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SLT:  Xml stylesheet transformation languag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dreeglina kasutatakse XML-i kuvamiseks kasutajale hoopis XSLT stylesheete.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+XSLT tugi on brauserites olemas, ag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namasti tehakse teisendus kohe serveris, mitte brauseris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inevalt css-st on XSLT ise ka XML süntaksig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SLT on palju universaalsem vahend, kui ainult XML-i väljanäitamise abivahend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SLT on üldine reeglikeel XML tekstide teisendamise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T abil saab XML faili teisendada näiteks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htaks HTML faili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stsuguseks XML failiks (lisades, muutes, sorteerides ...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ain-tekst failiks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 j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75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SL, XSLT, XPATH, XSL-FO: mis need 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: üldnimetus kogu värgi kohta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T: teisenduseeglite keel (fokuseerume sellel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PATH: xml tekstist mingi lõigu otsimise keel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T sisaldab XPATH-i!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-FO: xml formatting objects - kujunduske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Edaspidi kasutame nimetust XSL ainult XSLT+XPATH koht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SL-FO-d me ei vaat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80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1040" y="-90720"/>
            <a:ext cx="7765920" cy="92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SL kasutamine: põhimõtted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" name=""/>
          <p:cNvSpPr/>
          <p:nvPr/>
        </p:nvSpPr>
        <p:spPr>
          <a:xfrm>
            <a:off x="2973240" y="5127480"/>
            <a:ext cx="3079800" cy="1109880"/>
          </a:xfrm>
          <a:prstGeom prst="roundRect">
            <a:avLst>
              <a:gd name="adj" fmla="val 13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384360" y="5429160"/>
            <a:ext cx="2448360" cy="453960"/>
            <a:chOff x="3384360" y="5429160"/>
            <a:chExt cx="2448360" cy="453960"/>
          </a:xfrm>
        </p:grpSpPr>
        <p:sp>
          <p:nvSpPr>
            <p:cNvPr id="85" name=""/>
            <p:cNvSpPr/>
            <p:nvPr/>
          </p:nvSpPr>
          <p:spPr>
            <a:xfrm>
              <a:off x="3598920" y="5429160"/>
              <a:ext cx="2019240" cy="4539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84360" y="5429160"/>
              <a:ext cx="2448360" cy="4442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Bitstream Vera Sans"/>
                </a:rPr>
                <a:t>XSL prots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429080" y="4545000"/>
            <a:ext cx="1800" cy="56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194000" y="3860640"/>
            <a:ext cx="444600" cy="703440"/>
            <a:chOff x="4194000" y="3860640"/>
            <a:chExt cx="444600" cy="703440"/>
          </a:xfrm>
        </p:grpSpPr>
        <p:sp>
          <p:nvSpPr>
            <p:cNvPr id="89" name=""/>
            <p:cNvSpPr/>
            <p:nvPr/>
          </p:nvSpPr>
          <p:spPr>
            <a:xfrm>
              <a:off x="4208400" y="3892680"/>
              <a:ext cx="1800" cy="4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37160" y="4044960"/>
              <a:ext cx="1440" cy="4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94000" y="3860640"/>
              <a:ext cx="428760" cy="184320"/>
            </a:xfrm>
            <a:custGeom>
              <a:avLst/>
              <a:gdLst/>
              <a:ahLst/>
              <a:rect l="l" t="t" r="r" b="b"/>
              <a:pathLst>
                <a:path w="1192" h="511">
                  <a:moveTo>
                    <a:pt x="0" y="0"/>
                  </a:moveTo>
                  <a:lnTo>
                    <a:pt x="109" y="110"/>
                  </a:lnTo>
                  <a:lnTo>
                    <a:pt x="218" y="145"/>
                  </a:lnTo>
                  <a:lnTo>
                    <a:pt x="363" y="182"/>
                  </a:lnTo>
                  <a:lnTo>
                    <a:pt x="508" y="217"/>
                  </a:lnTo>
                  <a:lnTo>
                    <a:pt x="648" y="292"/>
                  </a:lnTo>
                  <a:lnTo>
                    <a:pt x="757" y="400"/>
                  </a:lnTo>
                  <a:lnTo>
                    <a:pt x="867" y="400"/>
                  </a:lnTo>
                  <a:lnTo>
                    <a:pt x="1012" y="435"/>
                  </a:lnTo>
                  <a:lnTo>
                    <a:pt x="1152" y="510"/>
                  </a:lnTo>
                  <a:lnTo>
                    <a:pt x="1191" y="510"/>
                  </a:lnTo>
                  <a:lnTo>
                    <a:pt x="1191" y="5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06960" y="4381560"/>
              <a:ext cx="428400" cy="182520"/>
            </a:xfrm>
            <a:custGeom>
              <a:avLst/>
              <a:gdLst/>
              <a:ahLst/>
              <a:rect l="l" t="t" r="r" b="b"/>
              <a:pathLst>
                <a:path w="1191" h="507">
                  <a:moveTo>
                    <a:pt x="0" y="0"/>
                  </a:moveTo>
                  <a:lnTo>
                    <a:pt x="108" y="109"/>
                  </a:lnTo>
                  <a:lnTo>
                    <a:pt x="217" y="144"/>
                  </a:lnTo>
                  <a:lnTo>
                    <a:pt x="362" y="179"/>
                  </a:lnTo>
                  <a:lnTo>
                    <a:pt x="507" y="215"/>
                  </a:lnTo>
                  <a:lnTo>
                    <a:pt x="647" y="290"/>
                  </a:lnTo>
                  <a:lnTo>
                    <a:pt x="756" y="396"/>
                  </a:lnTo>
                  <a:lnTo>
                    <a:pt x="865" y="396"/>
                  </a:lnTo>
                  <a:lnTo>
                    <a:pt x="1010" y="431"/>
                  </a:lnTo>
                  <a:lnTo>
                    <a:pt x="1150" y="506"/>
                  </a:lnTo>
                  <a:lnTo>
                    <a:pt x="1190" y="506"/>
                  </a:lnTo>
                  <a:lnTo>
                    <a:pt x="1190" y="50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195080" y="4108320"/>
            <a:ext cx="517320" cy="302760"/>
            <a:chOff x="4195080" y="4108320"/>
            <a:chExt cx="517320" cy="302760"/>
          </a:xfrm>
        </p:grpSpPr>
        <p:sp>
          <p:nvSpPr>
            <p:cNvPr id="94" name=""/>
            <p:cNvSpPr/>
            <p:nvPr/>
          </p:nvSpPr>
          <p:spPr>
            <a:xfrm>
              <a:off x="4219560" y="4108320"/>
              <a:ext cx="468360" cy="271440"/>
            </a:xfrm>
            <a:prstGeom prst="roundRect">
              <a:avLst>
                <a:gd name="adj" fmla="val 5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95080" y="4108320"/>
              <a:ext cx="517320" cy="302760"/>
            </a:xfrm>
            <a:prstGeom prst="roundRect">
              <a:avLst>
                <a:gd name="adj" fmla="val 5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XS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763640" y="5211720"/>
            <a:ext cx="444600" cy="703440"/>
            <a:chOff x="1763640" y="5211720"/>
            <a:chExt cx="444600" cy="703440"/>
          </a:xfrm>
        </p:grpSpPr>
        <p:sp>
          <p:nvSpPr>
            <p:cNvPr id="97" name=""/>
            <p:cNvSpPr/>
            <p:nvPr/>
          </p:nvSpPr>
          <p:spPr>
            <a:xfrm>
              <a:off x="1778040" y="5243400"/>
              <a:ext cx="1440" cy="49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06800" y="5396040"/>
              <a:ext cx="1440" cy="4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63640" y="5211720"/>
              <a:ext cx="428760" cy="184320"/>
            </a:xfrm>
            <a:custGeom>
              <a:avLst/>
              <a:gdLst/>
              <a:ahLst/>
              <a:rect l="l" t="t" r="r" b="b"/>
              <a:pathLst>
                <a:path w="1192" h="511">
                  <a:moveTo>
                    <a:pt x="0" y="0"/>
                  </a:moveTo>
                  <a:lnTo>
                    <a:pt x="109" y="110"/>
                  </a:lnTo>
                  <a:lnTo>
                    <a:pt x="218" y="145"/>
                  </a:lnTo>
                  <a:lnTo>
                    <a:pt x="363" y="182"/>
                  </a:lnTo>
                  <a:lnTo>
                    <a:pt x="508" y="217"/>
                  </a:lnTo>
                  <a:lnTo>
                    <a:pt x="648" y="292"/>
                  </a:lnTo>
                  <a:lnTo>
                    <a:pt x="757" y="400"/>
                  </a:lnTo>
                  <a:lnTo>
                    <a:pt x="867" y="400"/>
                  </a:lnTo>
                  <a:lnTo>
                    <a:pt x="1012" y="435"/>
                  </a:lnTo>
                  <a:lnTo>
                    <a:pt x="1152" y="510"/>
                  </a:lnTo>
                  <a:lnTo>
                    <a:pt x="1191" y="510"/>
                  </a:lnTo>
                  <a:lnTo>
                    <a:pt x="1191" y="5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76240" y="5732640"/>
              <a:ext cx="428760" cy="182520"/>
            </a:xfrm>
            <a:custGeom>
              <a:avLst/>
              <a:gdLst/>
              <a:ahLst/>
              <a:rect l="l" t="t" r="r" b="b"/>
              <a:pathLst>
                <a:path w="1192" h="507">
                  <a:moveTo>
                    <a:pt x="0" y="0"/>
                  </a:moveTo>
                  <a:lnTo>
                    <a:pt x="109" y="109"/>
                  </a:lnTo>
                  <a:lnTo>
                    <a:pt x="218" y="144"/>
                  </a:lnTo>
                  <a:lnTo>
                    <a:pt x="363" y="179"/>
                  </a:lnTo>
                  <a:lnTo>
                    <a:pt x="508" y="215"/>
                  </a:lnTo>
                  <a:lnTo>
                    <a:pt x="648" y="290"/>
                  </a:lnTo>
                  <a:lnTo>
                    <a:pt x="757" y="396"/>
                  </a:lnTo>
                  <a:lnTo>
                    <a:pt x="866" y="396"/>
                  </a:lnTo>
                  <a:lnTo>
                    <a:pt x="1011" y="431"/>
                  </a:lnTo>
                  <a:lnTo>
                    <a:pt x="1151" y="506"/>
                  </a:lnTo>
                  <a:lnTo>
                    <a:pt x="1191" y="506"/>
                  </a:lnTo>
                  <a:lnTo>
                    <a:pt x="1191" y="50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722240" y="5459400"/>
            <a:ext cx="576720" cy="302760"/>
            <a:chOff x="1722240" y="5459400"/>
            <a:chExt cx="576720" cy="302760"/>
          </a:xfrm>
        </p:grpSpPr>
        <p:sp>
          <p:nvSpPr>
            <p:cNvPr id="102" name=""/>
            <p:cNvSpPr/>
            <p:nvPr/>
          </p:nvSpPr>
          <p:spPr>
            <a:xfrm>
              <a:off x="1751040" y="5459400"/>
              <a:ext cx="519120" cy="271440"/>
            </a:xfrm>
            <a:prstGeom prst="roundRect">
              <a:avLst>
                <a:gd name="adj" fmla="val 5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22240" y="5459400"/>
              <a:ext cx="576720" cy="302760"/>
            </a:xfrm>
            <a:prstGeom prst="roundRect">
              <a:avLst>
                <a:gd name="adj" fmla="val 5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08320" y="5646600"/>
            <a:ext cx="6397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75360" y="5603760"/>
            <a:ext cx="6397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799320" y="5238720"/>
            <a:ext cx="444600" cy="703440"/>
            <a:chOff x="6799320" y="5238720"/>
            <a:chExt cx="444600" cy="703440"/>
          </a:xfrm>
        </p:grpSpPr>
        <p:sp>
          <p:nvSpPr>
            <p:cNvPr id="107" name=""/>
            <p:cNvSpPr/>
            <p:nvPr/>
          </p:nvSpPr>
          <p:spPr>
            <a:xfrm>
              <a:off x="6813720" y="5270400"/>
              <a:ext cx="1440" cy="49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42120" y="5423040"/>
              <a:ext cx="1800" cy="4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99320" y="5238720"/>
              <a:ext cx="428400" cy="184320"/>
            </a:xfrm>
            <a:custGeom>
              <a:avLst/>
              <a:gdLst/>
              <a:ahLst/>
              <a:rect l="l" t="t" r="r" b="b"/>
              <a:pathLst>
                <a:path w="1192" h="510">
                  <a:moveTo>
                    <a:pt x="0" y="0"/>
                  </a:moveTo>
                  <a:lnTo>
                    <a:pt x="108" y="110"/>
                  </a:lnTo>
                  <a:lnTo>
                    <a:pt x="218" y="144"/>
                  </a:lnTo>
                  <a:lnTo>
                    <a:pt x="363" y="181"/>
                  </a:lnTo>
                  <a:lnTo>
                    <a:pt x="508" y="216"/>
                  </a:lnTo>
                  <a:lnTo>
                    <a:pt x="648" y="292"/>
                  </a:lnTo>
                  <a:lnTo>
                    <a:pt x="757" y="400"/>
                  </a:lnTo>
                  <a:lnTo>
                    <a:pt x="866" y="400"/>
                  </a:lnTo>
                  <a:lnTo>
                    <a:pt x="1011" y="434"/>
                  </a:lnTo>
                  <a:lnTo>
                    <a:pt x="1152" y="509"/>
                  </a:lnTo>
                  <a:lnTo>
                    <a:pt x="1191" y="509"/>
                  </a:lnTo>
                  <a:lnTo>
                    <a:pt x="1191" y="50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11920" y="5759280"/>
              <a:ext cx="430200" cy="182880"/>
            </a:xfrm>
            <a:custGeom>
              <a:avLst/>
              <a:gdLst/>
              <a:ahLst/>
              <a:rect l="l" t="t" r="r" b="b"/>
              <a:pathLst>
                <a:path w="1193" h="509">
                  <a:moveTo>
                    <a:pt x="0" y="0"/>
                  </a:moveTo>
                  <a:lnTo>
                    <a:pt x="109" y="109"/>
                  </a:lnTo>
                  <a:lnTo>
                    <a:pt x="218" y="144"/>
                  </a:lnTo>
                  <a:lnTo>
                    <a:pt x="363" y="180"/>
                  </a:lnTo>
                  <a:lnTo>
                    <a:pt x="508" y="215"/>
                  </a:lnTo>
                  <a:lnTo>
                    <a:pt x="649" y="292"/>
                  </a:lnTo>
                  <a:lnTo>
                    <a:pt x="758" y="398"/>
                  </a:lnTo>
                  <a:lnTo>
                    <a:pt x="867" y="398"/>
                  </a:lnTo>
                  <a:lnTo>
                    <a:pt x="1012" y="433"/>
                  </a:lnTo>
                  <a:lnTo>
                    <a:pt x="1152" y="508"/>
                  </a:lnTo>
                  <a:lnTo>
                    <a:pt x="1192" y="508"/>
                  </a:lnTo>
                  <a:lnTo>
                    <a:pt x="1192" y="5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527520" y="5486400"/>
            <a:ext cx="2105280" cy="302760"/>
            <a:chOff x="6527520" y="5486400"/>
            <a:chExt cx="2105280" cy="302760"/>
          </a:xfrm>
        </p:grpSpPr>
        <p:sp>
          <p:nvSpPr>
            <p:cNvPr id="112" name=""/>
            <p:cNvSpPr/>
            <p:nvPr/>
          </p:nvSpPr>
          <p:spPr>
            <a:xfrm>
              <a:off x="6735600" y="5486400"/>
              <a:ext cx="1689120" cy="271440"/>
            </a:xfrm>
            <a:prstGeom prst="roundRect">
              <a:avLst>
                <a:gd name="adj" fmla="val 5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27520" y="5486400"/>
              <a:ext cx="2105280" cy="302760"/>
            </a:xfrm>
            <a:prstGeom prst="roundRect">
              <a:avLst>
                <a:gd name="adj" fmla="val 5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HTML (või XML või tex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115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12800" y="1197000"/>
            <a:ext cx="7099200" cy="26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eil peab olema programm (XSL protsessor) mis mõistab XSL keelt kasu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sessor võtab sisse kaks fail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-   XML lähtetekst: seda hakatakse teisend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-   XSL tekst: reeglid teisendamis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sessor annab tulemuseks teisendatud fa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äljundfaili formaati saame ise määrata: HTML, XML, tek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SL kasutamine: xsl protsessor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mised brauserid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S IE sisaldab MS-i XSL protsessorit (nö opsüsteemi osa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zilla/Netscape sisaldavad samuti XSL protsessori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rakendused (tüüpiliselt kasutatakse neid) sisaldavad reeglina ni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äsurea programmi xslt teisendustek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eki nende teisenduste tegemiseks arendaja oma tarkvar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k kvaliteetseid vabavaralisi xsl protsessoreid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bxs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C keelne teek, mis mh sisaldab xsltproc programmi (www.xmlsoft.org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ala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Apache projekti XSL protsessor, Javas (www.apache.org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James Clarki xslt protsessor Javas (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www.jclark.com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-277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axo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Michael Kay xslt protsessor Javas (users.iclway.co.uk/mhkay/saxon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38080" y="379080"/>
            <a:ext cx="7763040" cy="299880"/>
            <a:chOff x="838080" y="379080"/>
            <a:chExt cx="7763040" cy="299880"/>
          </a:xfrm>
        </p:grpSpPr>
        <p:sp>
          <p:nvSpPr>
            <p:cNvPr id="121" name=""/>
            <p:cNvSpPr/>
            <p:nvPr/>
          </p:nvSpPr>
          <p:spPr>
            <a:xfrm>
              <a:off x="838080" y="673200"/>
              <a:ext cx="776124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8599320" y="379080"/>
              <a:ext cx="1800" cy="2998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No Slide Title</dc:title>
</cp:coreProperties>
</file>